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839-EBD2-42BE-AABF-A429FEE9C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9C8-25DD-4104-83D1-04A4B42B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F15-6A2A-40BD-9D28-D8FD9E60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51DF-A01F-47F1-814A-EAA8565CB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E722-5FA4-402A-9FD5-8F1CAA2E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6FC8-4BA3-4363-BCF7-81B6D635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2A6A-00FA-49BC-89B7-197E9857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EC09-9C39-41E4-A225-22E019F4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2A6A-2530-47AF-B13D-BD48A5F3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4749-35CC-4102-896F-97FF50F5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FCC1-1F0C-424D-A5D7-91205C67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DB7-A8B0-4EAF-B04B-93D45247C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970B-FA96-41EE-AA45-1D981AF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0FBB-D916-4F89-B860-DABD85D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117E-485E-48C0-9768-374C61DF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8E51-4F66-4401-808D-24331176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909A-DC4E-40F2-AD2D-1B61BCE0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E25-D1D8-45B9-8015-2B3189D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657-0025-4E5E-8A7E-D26F434B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417-E1DC-4352-B454-820BD76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919A-D5CE-4A0B-A7DA-840BC4CF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143B-79C3-48AE-A235-BA35AD76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8D7A-099B-43C6-BC34-F8EF051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73AF-71DD-456C-A1A6-659527CA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31BB-D4A9-4DA8-AF3D-1492BEDFF23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2EB9-6232-4837-9F00-79389C22D2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LL PART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LASMA MEMBRAN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UNDARY THAT SEPARATES THE INTERNAL PARTS OF THE CELL FROM THE EXTERNAL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VELY PERMEABLE -   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ONTROLS WHAT ENTERS AND LEAVES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66680" y="609480"/>
            <a:ext cx="739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PLASM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LL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WHICH THE OTHER CELL PARTS ARE SUSP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XTURE IS SOMEWHAT LIK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GELAT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RGANEL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INCT BODIES WITHIN THE CELL THAT CARRY OUT SPECIFIC CELLULAR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TL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ORG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523880" y="380880"/>
            <a:ext cx="6477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ITOCHONDRI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ORGANELLE IS A SMALL, ROD-SHAPED BODY WITH A DOUBLE MEMBRANE (THE INNER MEMBRANE IS GREATLY FOL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ELLULAR RESPI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A PROCESS WHICH RELEASES ENERGY FROM FOOD &amp; STORES IT AS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RIBOSO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, GRAIN-LIKE BODY, USUALLY ATTACHED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BOSOMES ARE TH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ROTEIN FACTOR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CELL - THEY ARE THE SITE OF PROTEIN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6324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NDOPLASMIC RETICULUM (ER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YSTEM OF PARALLEL MEMBRANES THAT CONNECT THE NUCLEAR MEMBRANE WITH THE PLASMA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LIKE A SYSTEM OF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CAN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TRANSPORT MAT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ROUGH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IBOSOMES ARE ATTACHED =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ROUG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IBOSOMES PRESENT =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SMOOTH 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3 MAIN REGIONS OF THE CE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SM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6934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OLGI COMPLEX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RGANELLE MADE OF A GROUP OF SLIGHTLY FLATTENED, STACKED MEMBR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OUGHT TO CONCENTRATE &amp; STORE CELL SECRETIONS SUCH AS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ENZYMES &amp;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 &amp; STORES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153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YSOSOM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IZED KIND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VACUO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IS A SACK OF STORED DIGESTIVE ENZY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DIGEST PROTEINS THAT HAVE BEEN TAKEN INTO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WHITE BLOOD CELLS CA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           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ENGULF &amp; DESTROY BAC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467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YTOSKELET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STEM OF PROTEIN FIBERS &amp; HOLLOW FILAMENTS THAT GIVE THE CELL ITS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SHA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HELP THE CELL TO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NTRIO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DY MADE OF BUNDLES OF PROTEIN FIBERS, LOCATED NEAR TH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NUCLE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NIMAL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ES SPINDLE FIBERS THAT AID IN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ANIM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LLS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43000" y="685800"/>
            <a:ext cx="70102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ACUOLE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CES IN THE CYTOPLASM SURROUNDED BY A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TOR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FOOD, WATER, O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TS OFTEN HAVE A LARGE, CENTRAL VACUOLE FILLED WITH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914400" y="457200"/>
            <a:ext cx="7315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ELL WAL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IGID,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NON-LI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AYER FOUND OUTSIDE THE PLASMA MEMBRANE IN PLANTS, FUNGI, &amp; BAC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SUPP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LANTS ITS MADE OF </a:t>
            </a:r>
            <a:r>
              <a:rPr b="0" lang="en-US" sz="2800" spc="-1" strike="noStrike" u="sng">
                <a:solidFill>
                  <a:srgbClr val="4633c0"/>
                </a:solidFill>
                <a:uFillTx/>
                <a:latin typeface="Times New Roman"/>
              </a:rPr>
              <a:t>CELLULO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N FUNGI ITS MADE OF CHIT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066680"/>
            <a:ext cx="7467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LOROPLAS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THAT CONTAIN THE PIGMENT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HLOROPHY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FOUND ONLY IN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L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TE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PHOTOSYNTHES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COMPLEX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67680" cy="67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80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THE CONTROL CENTER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GENETIC MATERIAL (DNA) AND IS SURROUNDED BY A NUCLEAR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UCLEOLU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R MORE DARK-STAINED BODIES WITHIN THE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STRUCTURES ARE THOUGHT TO MAKE AND STOR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R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 THEY ARE THOUGHT TO HELP MAKE THE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RIB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8077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ATI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, GRAINY LOOKING STUFF INSIDE THE NUCLEU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OMATIN IS MADE OF TANGLES OF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DNA &amp;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TORES GENETIC INFORMATION &amp; CHANGES FORM JUST BEFORE CELL DIVISION TO BECOM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KLY-STAINED, PAIRED BODIES MADE OF DNA AND PROTE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LE ONLY DURING </a:t>
            </a:r>
            <a:r>
              <a:rPr b="0" lang="en-US" sz="3200" spc="-1" strike="noStrike" u="sng">
                <a:solidFill>
                  <a:srgbClr val="4633c0"/>
                </a:solidFill>
                <a:uFillTx/>
                <a:latin typeface="Times New Roman"/>
              </a:rPr>
              <a:t>CELL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CONTAIN THE GENETIC INFORMATION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848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03:01Z</dcterms:created>
  <dc:creator>NHS</dc:creator>
  <dc:description/>
  <dc:language>en-US</dc:language>
  <cp:lastModifiedBy>NHS NPS</cp:lastModifiedBy>
  <dcterms:modified xsi:type="dcterms:W3CDTF">2011-11-30T17:21:25Z</dcterms:modified>
  <cp:revision>24</cp:revision>
  <dc:subject/>
  <dc:title>THE CELL</dc:title>
</cp:coreProperties>
</file>